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CA7-BCFC-416D-BF8B-87C4397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AFC-50A6-4F23-8F5A-8316FAA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AE4-A8FA-4016-9221-E3312268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6FA-6510-46C3-9DA5-1BE0F996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2796-6B33-4262-B2FD-59268BFD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9A8-DFFF-403A-BCD3-F0743CC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FD69-6107-4D26-A31B-AB833FF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32E8-ECB8-449D-8634-EEBFE5A0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61E7-2482-4B71-92ED-1A9A8173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0056-B802-4D14-A112-C4C512F8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AE3-D155-43AA-A99F-24A45282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81A-7940-4D16-B925-54E03BF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ED37-3F4C-447F-A9FD-4C5BC2F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69D2-0298-4860-B0E1-13753AA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B695-D86F-4B0F-9BB8-B4279FB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1FA-5338-42C5-A88C-5782F04C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FD96-0E50-4F02-B834-AF8F5A3C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533-8F24-48E7-91BE-4B386C7A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C9A-B819-4AEA-B6DB-A791D6D2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B2E-CDBC-4069-9DC3-073B4D05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81C-E017-4CB5-8991-13A1F68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61B-EF36-4096-A370-3BD69E8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98B-9337-44A4-A5CD-52DF361C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D48-09F3-475B-A453-06CFE84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7FBF-40AD-48F9-9D75-21FC8B1991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E26C-AD30-465A-9F76-BBF9EE6947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. 5,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ir a lake in south america full of gold and jewels Incan Indian chieves honored there gods by throwing jewels into a lake and jumping in, coated with gold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:irrigate::manure: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ive:openly::jitter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3:03:22Z</dcterms:created>
  <dc:creator>VMS</dc:creator>
  <dc:description/>
  <dc:language>en-US</dc:language>
  <cp:lastModifiedBy>VMS</cp:lastModifiedBy>
  <dcterms:modified xsi:type="dcterms:W3CDTF">2009-10-07T19:16:11Z</dcterms:modified>
  <cp:revision>3</cp:revision>
  <dc:subject/>
  <dc:title>English</dc:title>
</cp:coreProperties>
</file>